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606B-20AB-4C52-ADC3-75029106E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85DD-3651-4AAF-81C0-87264DE76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8FF6-C28C-4A27-BDFF-C371B0B7C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6A77-566C-4152-B936-70473F917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BF65-537F-457E-A140-C1F844681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890A-CDA5-4CC6-B7B2-A91782085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11BD-7C99-484B-BECF-97E36A258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4276-2C6E-4981-8B9D-77E4E2ED6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2E57-5704-4B5F-A748-59E0AE6BF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EF0F-10C2-437D-AE3A-9C8EF3C63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38CB-2035-463E-8A96-7BD545ACA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F72D-670C-4ED3-8661-D4A45167E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4492-828F-4549-90DF-97D8D66D0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96D6-28CB-4DEE-A5F8-93FB3FCD9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65D2-8223-4784-8FDF-B870A6C99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27F2-D369-44CB-B386-3CE740ECD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6B43-0AC1-408C-86CA-B03CF73E9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B90B-131E-4516-B763-8A9720B0F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7DE5-B7F9-42F5-8B84-9522C0B14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FA68-CF10-402C-B6DF-A64D95AB1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C9BC-E1D2-43B4-A586-2BFE92721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0E65-F60F-4661-ADD5-D182AB97D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75DB-B746-451D-88A6-DDE9018E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5C4-B6F6-4D04-8BB0-20851FE7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7DFB-ECEA-4562-B0AA-17D2E51E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560-E564-4D7E-8F22-754377E2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9DC-A46C-4533-94BC-5A1561FC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0F92-E0AF-4950-A280-327BEE97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F0D5-63F8-44BE-B73C-A431881C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B4FD-C098-44F5-A7EA-9A8F8B6F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3086-4C55-4986-B0BF-F3D59935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0046-A567-472C-B6AB-63279119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94E3-C88A-4726-9E67-F95E83AA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2FF2-B10A-492D-B4CA-6BEFFB4A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C77-C34E-414A-A127-79975A16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E852-AE8F-43CB-B939-BAF14CF4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5260-16A5-459C-B011-8E3D605A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C144-F947-45DC-8902-9AED302C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16BB-113B-4786-9689-B9006BAC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E450-427B-4002-A7F1-BB664B60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D6C7-8038-440D-A726-675E203D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EFE84-4EC4-4180-99F4-71D8C352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AB88E-5A8C-4161-ACD5-FC4A9AA4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0D79A-F09E-456F-B33B-591E850D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84875-D0B9-43B6-B568-AA0064EE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0E5-D712-48AC-94A7-3703A179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DF95D-ED69-4273-8746-26E6480D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6C978-2E68-42E3-A733-2E0C42DB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C673D-1623-4CC7-A8CB-4BA0CBA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DB934-8DF9-4DC1-925C-90430642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47D56-0B71-4621-8BB8-DE4B19B5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B28A2-3829-4AB9-AFC7-C6234B03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39710-09A3-4F23-A878-E94F4E5C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BBB7B-9925-4BDF-B53A-F83DA8BC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5CF3F-0915-43D8-9503-000A685A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2F2AE-5E1B-4519-B3B6-1F7C26F9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FCC4-2B97-4B13-843C-269C5603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8C1FB-A795-49F3-9CD5-A045F0B5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40900-4887-416B-A1E3-5B9C66AA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C4702-F380-4D27-A0D3-F5A66BD5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786F1-03D1-42EE-82F5-262F745A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92AA9-1A41-43EC-90E3-7F34411E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FB7AB-A276-4AF6-9515-EBC21F3B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4BDF8-F1F0-4BE1-BC98-B8A229B2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EC58-6461-4F77-98B9-6E0608C4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A79F6-D73E-4D17-98F4-256FDB58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270-D2EE-4FC5-A250-90C90251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A2C-16DF-40A0-9A5C-3A6E0DB6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0CE-52AE-4F69-BFBA-B2326DB6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A1D-5FEB-42E0-81A8-F64EEF83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3EF-FCB5-40A6-B5E5-AF008DB6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АДП</a:t>
            </a:r>
            <a:endParaRPr b="0" lang="en-US" sz="11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356C-40CC-4092-866D-736AB7BA2033}" type="slidenum">
              <a:rPr b="0" lang="en-US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АДП</a:t>
            </a:r>
            <a:endParaRPr b="0" lang="en-US" sz="11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1823-DA8A-4BA7-998D-927EB7D6459D}" type="slidenum">
              <a:rPr b="0" lang="en-US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АДП</a:t>
            </a:r>
            <a:endParaRPr b="0" lang="en-US" sz="11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C849-DD59-4E6F-9C0D-A474FB6F804F}" type="slidenum">
              <a:rPr b="0" lang="en-US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АДП</a:t>
            </a:r>
            <a:endParaRPr b="0" lang="en-US" sz="11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ACFD-BB2F-451A-984F-76B26E144168}" type="slidenum">
              <a:rPr b="0" lang="en-US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031"/>
          <p:cNvSpPr/>
          <p:nvPr/>
        </p:nvSpPr>
        <p:spPr>
          <a:xfrm>
            <a:off x="395280" y="1628640"/>
            <a:ext cx="813744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Tahoma"/>
              </a:rPr>
              <a:t>Prostorna akustika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ema 4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Akustika malih prostorija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5"/>
          <p:cNvSpPr/>
          <p:nvPr/>
        </p:nvSpPr>
        <p:spPr>
          <a:xfrm>
            <a:off x="826920" y="1341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99"/>
                </a:solidFill>
                <a:latin typeface="Tahoma"/>
              </a:rPr>
              <a:t>Raspodela nivoa zvučnog pritiska duž prostorije dimenzija </a:t>
            </a:r>
            <a:r>
              <a:rPr b="0" i="1" lang="en-US" sz="2400" spc="-1" strike="noStrike">
                <a:solidFill>
                  <a:srgbClr val="ffff99"/>
                </a:solidFill>
                <a:latin typeface="Tahoma"/>
              </a:rPr>
              <a:t>6</a:t>
            </a:r>
            <a:r>
              <a:rPr b="0" i="1" lang="sl-SI" sz="2400" spc="-1" strike="noStrike">
                <a:solidFill>
                  <a:srgbClr val="ffff99"/>
                </a:solidFill>
                <a:latin typeface="Tahoma"/>
              </a:rPr>
              <a:t> m x 3,9 m x 2,6 m kada je izvor u ravni zida a prijemnik se kreće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276" name="Picture 6" descr="raspodela pritiska"/>
          <p:cNvPicPr/>
          <p:nvPr/>
        </p:nvPicPr>
        <p:blipFill>
          <a:blip r:embed="rId1"/>
          <a:stretch/>
        </p:blipFill>
        <p:spPr>
          <a:xfrm>
            <a:off x="1042920" y="2852640"/>
            <a:ext cx="7129440" cy="35402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1187280" y="476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Nivo zvučnog pritiska na frekvencijama rezonansi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8" descr="slika1"/>
          <p:cNvPicPr/>
          <p:nvPr/>
        </p:nvPicPr>
        <p:blipFill>
          <a:blip r:embed="rId1"/>
          <a:stretch/>
        </p:blipFill>
        <p:spPr>
          <a:xfrm>
            <a:off x="250920" y="2924280"/>
            <a:ext cx="8713800" cy="34718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539640" y="1557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i="1" lang="sl-SI" sz="2400" spc="-1" strike="noStrike">
                <a:solidFill>
                  <a:srgbClr val="ffff99"/>
                </a:solidFill>
                <a:latin typeface="Tahoma"/>
              </a:rPr>
              <a:t>Raspodela  zvučnog pritiska u prostoriji dimenzija 10 m x 6 m x 3 m za površinski talas (4,2,0)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971640" y="476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Nivo zvučnog pritiska na frekvencijama rezonansi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"/>
          <p:cNvSpPr/>
          <p:nvPr/>
        </p:nvSpPr>
        <p:spPr>
          <a:xfrm>
            <a:off x="468360" y="2565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282" name="Picture 5" descr="Rezonance u prosorijama koej nisu pravougaone"/>
          <p:cNvPicPr/>
          <p:nvPr/>
        </p:nvPicPr>
        <p:blipFill>
          <a:blip r:embed="rId1"/>
          <a:stretch/>
        </p:blipFill>
        <p:spPr>
          <a:xfrm>
            <a:off x="900000" y="1371600"/>
            <a:ext cx="7323120" cy="54864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6"/>
          <p:cNvSpPr/>
          <p:nvPr/>
        </p:nvSpPr>
        <p:spPr>
          <a:xfrm>
            <a:off x="755640" y="47628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Zvučno polje u prostorijam</a:t>
            </a:r>
            <a:r>
              <a:rPr b="0" lang="en-US" sz="2000" spc="-1" strike="noStrike">
                <a:solidFill>
                  <a:srgbClr val="ffff99"/>
                </a:solidFill>
                <a:latin typeface="Tahoma"/>
              </a:rPr>
              <a:t>a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 sa paralelnim i kosim zidovima</a:t>
            </a:r>
            <a:endParaRPr b="0" lang="en-US" sz="20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395280" y="260280"/>
            <a:ext cx="828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285" name="Picture 6" descr="Rezonanse prostorije na niskim  f"/>
          <p:cNvPicPr/>
          <p:nvPr/>
        </p:nvPicPr>
        <p:blipFill>
          <a:blip r:embed="rId1"/>
          <a:stretch/>
        </p:blipFill>
        <p:spPr>
          <a:xfrm>
            <a:off x="611280" y="2276640"/>
            <a:ext cx="8137440" cy="41986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7"/>
          <p:cNvSpPr/>
          <p:nvPr/>
        </p:nvSpPr>
        <p:spPr>
          <a:xfrm>
            <a:off x="2050920" y="62064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Uticaj rezonansi prostorije na njenu frekvencijsku karakeristiku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1332000" y="2133720"/>
            <a:ext cx="66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Podru</a:t>
            </a:r>
            <a:r>
              <a:rPr b="0" lang="sr-Latn-CS" sz="4400" spc="-1" strike="noStrike">
                <a:solidFill>
                  <a:srgbClr val="ffff99"/>
                </a:solidFill>
                <a:latin typeface="Tahoma"/>
              </a:rPr>
              <a:t>č</a:t>
            </a: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je difu</a:t>
            </a:r>
            <a:r>
              <a:rPr b="0" lang="sr-Latn-CS" sz="4400" spc="-1" strike="noStrike">
                <a:solidFill>
                  <a:srgbClr val="ffff99"/>
                </a:solidFill>
                <a:latin typeface="Tahoma"/>
              </a:rPr>
              <a:t>z</a:t>
            </a: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ije statisti</a:t>
            </a:r>
            <a:r>
              <a:rPr b="0" lang="sr-Latn-CS" sz="4400" spc="-1" strike="noStrike">
                <a:solidFill>
                  <a:srgbClr val="ffff99"/>
                </a:solidFill>
                <a:latin typeface="Tahoma"/>
              </a:rPr>
              <a:t>č</a:t>
            </a: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ka teorija</a:t>
            </a:r>
            <a:r>
              <a:rPr b="0" lang="sr-Latn-CS" sz="44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755640" y="1268280"/>
            <a:ext cx="777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zvučna energija je u prostoriji raspoređena uniformno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zvučni talasi se prostiru u svim pravcima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539640" y="2997360"/>
            <a:ext cx="8207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Poboljšanje difuzije zvučnog polja u prostoriji zasniva se na prekidu sistema stojećih talasa, na odgovarajući način. 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Difuznost zvučnog polja je različita u svakoj prostoriji i prostorije sa istim vremenima reverberacije zvuče različito.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Difuznost je povezana sa prirodom opadanja zvuka 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4"/>
          <p:cNvSpPr/>
          <p:nvPr/>
        </p:nvSpPr>
        <p:spPr>
          <a:xfrm>
            <a:off x="1403280" y="2602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Načini za poboljšanje akustičkih karakteristika malih prostorija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95280" y="1700280"/>
            <a:ext cx="8424720" cy="703800"/>
          </a:xfrm>
          <a:prstGeom prst="rect">
            <a:avLst/>
          </a:prstGeom>
          <a:solidFill>
            <a:srgbClr val="b015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amo je jedan način da se postigne dobra difuzija zvučnog polja: veoma velika prostorija</a:t>
            </a:r>
            <a:endParaRPr b="0" lang="en-US" sz="2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468360" y="2924280"/>
            <a:ext cx="842472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Prvi i najvažniji korak u obezbeđenju difuznog zvučnog polja u malim prostorijama je:</a:t>
            </a:r>
            <a:endParaRPr b="0" lang="en-US" sz="2000" spc="-1" strike="noStrike">
              <a:solidFill>
                <a:srgbClr val="ffff99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da se frekvencije rezonanse rasporede što ravnomernije.</a:t>
            </a:r>
            <a:endParaRPr b="0" lang="en-US" sz="2000" spc="-1" strike="noStrike">
              <a:solidFill>
                <a:srgbClr val="ffff99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Zatim slede:</a:t>
            </a:r>
            <a:endParaRPr b="0" lang="en-US" sz="2000" spc="-1" strike="noStrike">
              <a:solidFill>
                <a:srgbClr val="ffff99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Iskošavanje zidova (seku se pod uglom različitim od 90</a:t>
            </a:r>
            <a:r>
              <a:rPr b="0" lang="sr-Latn-CS" sz="2000" spc="-1" strike="noStrike">
                <a:solidFill>
                  <a:srgbClr val="ffff99"/>
                </a:solidFill>
                <a:latin typeface="Symbol"/>
                <a:ea typeface="Symbol"/>
              </a:rPr>
              <a:t>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ahoma"/>
              </a:rPr>
              <a:t>Pravilan r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aspored apsorpcionog materijala</a:t>
            </a:r>
            <a:r>
              <a:rPr b="0" lang="en-US" sz="2000" spc="-1" strike="noStrike">
                <a:solidFill>
                  <a:srgbClr val="ffff99"/>
                </a:solidFill>
                <a:latin typeface="Tahoma"/>
              </a:rPr>
              <a:t> + 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apsorberi </a:t>
            </a:r>
            <a:r>
              <a:rPr b="0" lang="en-US" sz="2000" spc="-1" strike="noStrike">
                <a:solidFill>
                  <a:srgbClr val="ffff99"/>
                </a:solidFill>
                <a:latin typeface="Tahoma"/>
              </a:rPr>
              <a:t>veoma 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niskih frekvencija (membranski, helmholcovi, “bas – traps”)</a:t>
            </a:r>
            <a:endParaRPr b="0" lang="en-US" sz="2000" spc="-1" strike="noStrike">
              <a:solidFill>
                <a:srgbClr val="ffff99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Upotreba  difuzora</a:t>
            </a:r>
            <a:r>
              <a:rPr b="0" lang="en-US" sz="2000" spc="-1" strike="noStrike">
                <a:solidFill>
                  <a:srgbClr val="ffff99"/>
                </a:solidFill>
                <a:latin typeface="Tahoma"/>
              </a:rPr>
              <a:t> (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geometrijski</a:t>
            </a:r>
            <a:r>
              <a:rPr b="0" lang="en-US" sz="2000" spc="-1" strike="noStrike">
                <a:solidFill>
                  <a:srgbClr val="ffff99"/>
                </a:solidFill>
                <a:latin typeface="Tahoma"/>
              </a:rPr>
              <a:t>, Schroeder-ovi)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Odnos dimenzija paralelop prost"/>
          <p:cNvPicPr/>
          <p:nvPr/>
        </p:nvPicPr>
        <p:blipFill>
          <a:blip r:embed="rId1"/>
          <a:stretch/>
        </p:blipFill>
        <p:spPr>
          <a:xfrm>
            <a:off x="611280" y="2060640"/>
            <a:ext cx="3173400" cy="4040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Odnos dimenzija paralelop prost frekv opseg"/>
          <p:cNvPicPr/>
          <p:nvPr/>
        </p:nvPicPr>
        <p:blipFill>
          <a:blip r:embed="rId2"/>
          <a:stretch/>
        </p:blipFill>
        <p:spPr>
          <a:xfrm>
            <a:off x="4356000" y="2060640"/>
            <a:ext cx="4391280" cy="40226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6"/>
          <p:cNvSpPr/>
          <p:nvPr/>
        </p:nvSpPr>
        <p:spPr>
          <a:xfrm>
            <a:off x="1692360" y="47628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Odnos dimen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zija prostorije za ravnomeran raspored rezonansi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1042920" y="2421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Tahoma"/>
              </a:rPr>
              <a:t>Bolt - 2:3:5 i  1:1,26:1,5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116000" y="35733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Tahoma"/>
              </a:rPr>
              <a:t>Louden - 1 : 1,4 : 1,9.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116000" y="472428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Tahoma"/>
              </a:rPr>
              <a:t>Walker - 1 : 1,96 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: </a:t>
            </a:r>
            <a:r>
              <a:rPr b="0" lang="hr-HR" sz="2400" spc="-1" strike="noStrike">
                <a:solidFill>
                  <a:srgbClr val="ffff99"/>
                </a:solidFill>
                <a:latin typeface="Tahoma"/>
              </a:rPr>
              <a:t>2,59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1692360" y="47628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Odnos dimen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zija prostorije za ravnomeran raspored rezonansi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4"/>
          <p:cNvSpPr/>
          <p:nvPr/>
        </p:nvSpPr>
        <p:spPr>
          <a:xfrm>
            <a:off x="1692360" y="620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Postavljanje apsorpcionog materijala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2205000"/>
            <a:ext cx="712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nepravilan raspored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manje površine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755640" y="4076640"/>
            <a:ext cx="770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Postiže se: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veća efikasnost materijala (efekat ivica)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povećana difuznost (naizmenične reflektujuće i apsorpcione površine)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rekv opsezi u prostoriji"/>
          <p:cNvPicPr/>
          <p:nvPr/>
        </p:nvPicPr>
        <p:blipFill>
          <a:blip r:embed="rId1"/>
          <a:stretch/>
        </p:blipFill>
        <p:spPr>
          <a:xfrm>
            <a:off x="468360" y="1484280"/>
            <a:ext cx="8296200" cy="50292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1692360" y="54936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Osnovna frekvencijska područja prostorije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547640" y="692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Postavljanje difuzora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250920" y="1844640"/>
            <a:ext cx="86421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Schroeder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ovi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 difuzori različih oblika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geometrijski difuzori (cilindrični, pravougaoni, testerasti, ...)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nepravilne neravnine na zidovima i plafonu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: (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Da bi imali uticaja difuzni elementi treba da imaju debljinu od oko </a:t>
            </a:r>
            <a:r>
              <a:rPr b="0" lang="sr-Latn-CS" sz="24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/7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– oko 50 cm na 100 Hz [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T. Somertvile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]).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1403280" y="1773360"/>
            <a:ext cx="669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Geometrijska akustika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6"/>
          <p:cNvSpPr/>
          <p:nvPr/>
        </p:nvSpPr>
        <p:spPr>
          <a:xfrm>
            <a:off x="250920" y="1052640"/>
            <a:ext cx="864072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99"/>
                </a:solidFill>
                <a:latin typeface="Tahoma"/>
              </a:rPr>
              <a:t>Talasni front je površina sastavljena od tačaka u sredini kroz koju se prostire zvuk, koje su u istom delu vibracionog ciklusa – koje su u fazi.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99"/>
                </a:solidFill>
                <a:latin typeface="Tahoma"/>
              </a:rPr>
              <a:t>Zvučni zrak predstavlja putanju jednog elementa talasnog fronta i u opštem slučaju je normalan na talasni front.</a:t>
            </a:r>
            <a:endParaRPr b="0" lang="en-US" sz="2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308" name="Picture 7" descr="Izvor i njegov lik 1"/>
          <p:cNvPicPr/>
          <p:nvPr/>
        </p:nvPicPr>
        <p:blipFill>
          <a:blip r:embed="rId1"/>
          <a:stretch/>
        </p:blipFill>
        <p:spPr>
          <a:xfrm>
            <a:off x="179280" y="2790720"/>
            <a:ext cx="4537080" cy="3868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Izvor i njegov lik 2"/>
          <p:cNvPicPr/>
          <p:nvPr/>
        </p:nvPicPr>
        <p:blipFill>
          <a:blip r:embed="rId2"/>
          <a:stretch/>
        </p:blipFill>
        <p:spPr>
          <a:xfrm>
            <a:off x="4788000" y="2781360"/>
            <a:ext cx="4176720" cy="38574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9"/>
          <p:cNvSpPr/>
          <p:nvPr/>
        </p:nvSpPr>
        <p:spPr>
          <a:xfrm>
            <a:off x="826920" y="33336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Geometrijska akustika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Refleksija 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vu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nih 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raka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Zvucno polje u prostoriji"/>
          <p:cNvPicPr/>
          <p:nvPr/>
        </p:nvPicPr>
        <p:blipFill>
          <a:blip r:embed="rId1"/>
          <a:stretch/>
        </p:blipFill>
        <p:spPr>
          <a:xfrm>
            <a:off x="395280" y="243000"/>
            <a:ext cx="8209080" cy="66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1116000" y="1916280"/>
            <a:ext cx="70581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Područje rezonansi – talasna teorija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Područje difuzije – statistička teorija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Područje apsorpcije i spekularnih refleksija (zvuk se reflektuje k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o svetlost) – geometrijska akus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ika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547640" y="90792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Osnovna frekvencijska područja prostorije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476360" y="1628640"/>
            <a:ext cx="66960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ahoma"/>
              </a:rPr>
              <a:t>Rezonanse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99"/>
                </a:solidFill>
                <a:latin typeface="Tahoma"/>
              </a:rPr>
              <a:t>male prostorije i niske frekvencije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1692360" y="4762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Rezonanse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2195640" y="1844640"/>
                <a:ext cx="453708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0" name="Text Box 7"/>
          <p:cNvSpPr/>
          <p:nvPr/>
        </p:nvSpPr>
        <p:spPr>
          <a:xfrm>
            <a:off x="2556000" y="3429000"/>
            <a:ext cx="39607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99"/>
                </a:solidFill>
                <a:latin typeface="Tahoma"/>
              </a:rPr>
              <a:t>gde su: </a:t>
            </a:r>
            <a:r>
              <a:rPr b="0" i="1" lang="sl-SI" sz="2000" spc="-1" strike="noStrike">
                <a:solidFill>
                  <a:srgbClr val="ffff99"/>
                </a:solidFill>
                <a:latin typeface="Tahoma"/>
              </a:rPr>
              <a:t>lx, ly, lz</a:t>
            </a:r>
            <a:r>
              <a:rPr b="0" lang="sl-SI" sz="2000" spc="-1" strike="noStrike">
                <a:solidFill>
                  <a:srgbClr val="ffff99"/>
                </a:solidFill>
                <a:latin typeface="Tahoma"/>
              </a:rPr>
              <a:t> – dimenzije </a:t>
            </a:r>
            <a:r>
              <a:rPr b="0" lang="sl-SI" sz="20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ffff99"/>
                </a:solidFill>
                <a:latin typeface="Tahoma"/>
              </a:rPr>
              <a:t>prostorije,</a:t>
            </a:r>
            <a:endParaRPr b="0" lang="en-US" sz="2000" spc="-1" strike="noStrike">
              <a:solidFill>
                <a:srgbClr val="ffff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i="1" lang="sl-SI" sz="2000" spc="-1" strike="noStrike">
                <a:solidFill>
                  <a:srgbClr val="ffff99"/>
                </a:solidFill>
                <a:latin typeface="Tahoma"/>
              </a:rPr>
              <a:t>N</a:t>
            </a:r>
            <a:r>
              <a:rPr b="0" lang="sl-SI" sz="2000" spc="-1" strike="noStrike">
                <a:solidFill>
                  <a:srgbClr val="ffff99"/>
                </a:solidFill>
                <a:latin typeface="Tahoma"/>
              </a:rPr>
              <a:t> – trio prirodnih brojeva </a:t>
            </a:r>
            <a:r>
              <a:rPr b="0" lang="sl-SI" sz="20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ffff99"/>
                </a:solidFill>
                <a:latin typeface="Tahoma"/>
              </a:rPr>
              <a:t>(</a:t>
            </a:r>
            <a:r>
              <a:rPr b="0" i="1" lang="sl-SI" sz="2000" spc="-1" strike="noStrike">
                <a:solidFill>
                  <a:srgbClr val="ffff99"/>
                </a:solidFill>
                <a:latin typeface="Tahoma"/>
              </a:rPr>
              <a:t>n</a:t>
            </a:r>
            <a:r>
              <a:rPr b="0" i="1" lang="sl-SI" sz="20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r>
              <a:rPr b="0" i="1" lang="sl-SI" sz="2000" spc="-1" strike="noStrike">
                <a:solidFill>
                  <a:srgbClr val="ffff99"/>
                </a:solidFill>
                <a:latin typeface="Tahoma"/>
              </a:rPr>
              <a:t>, n</a:t>
            </a:r>
            <a:r>
              <a:rPr b="0" i="1" lang="sl-SI" sz="2000" spc="-1" strike="noStrike" baseline="-25000">
                <a:solidFill>
                  <a:srgbClr val="ffff99"/>
                </a:solidFill>
                <a:latin typeface="Tahoma"/>
              </a:rPr>
              <a:t>y</a:t>
            </a:r>
            <a:r>
              <a:rPr b="0" i="1" lang="sl-SI" sz="2000" spc="-1" strike="noStrike">
                <a:solidFill>
                  <a:srgbClr val="ffff99"/>
                </a:solidFill>
                <a:latin typeface="Tahoma"/>
              </a:rPr>
              <a:t>, n</a:t>
            </a:r>
            <a:r>
              <a:rPr b="0" i="1" lang="sl-SI" sz="2000" spc="-1" strike="noStrike" baseline="-25000">
                <a:solidFill>
                  <a:srgbClr val="ffff99"/>
                </a:solidFill>
                <a:latin typeface="Tahoma"/>
              </a:rPr>
              <a:t>z</a:t>
            </a:r>
            <a:r>
              <a:rPr b="0" lang="sl-SI" sz="20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i="1" lang="sl-SI" sz="2000" spc="-1" strike="noStrike">
                <a:solidFill>
                  <a:srgbClr val="ffff99"/>
                </a:solidFill>
                <a:latin typeface="Tahoma"/>
              </a:rPr>
              <a:t>c</a:t>
            </a:r>
            <a:r>
              <a:rPr b="0" lang="sl-SI" sz="2000" spc="-1" strike="noStrike">
                <a:solidFill>
                  <a:srgbClr val="ffff99"/>
                </a:solidFill>
                <a:latin typeface="Tahoma"/>
              </a:rPr>
              <a:t> –brzina zvuka</a:t>
            </a:r>
            <a:endParaRPr b="0" lang="en-US" sz="2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8"/>
              <p:cNvSpPr txBox="1"/>
              <p:nvPr/>
            </p:nvSpPr>
            <p:spPr>
              <a:xfrm>
                <a:off x="6012000" y="5229360"/>
                <a:ext cx="22320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Δ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Text Box 10"/>
          <p:cNvSpPr/>
          <p:nvPr/>
        </p:nvSpPr>
        <p:spPr>
          <a:xfrm>
            <a:off x="1116000" y="5516640"/>
            <a:ext cx="40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99"/>
                </a:solidFill>
                <a:latin typeface="Tahoma"/>
              </a:rPr>
              <a:t>Gustina frekvencija rezonanse</a:t>
            </a:r>
            <a:r>
              <a:rPr b="0" lang="en-US" sz="2000" spc="-1" strike="noStrike">
                <a:solidFill>
                  <a:srgbClr val="ffff99"/>
                </a:solidFill>
                <a:latin typeface="Tahoma"/>
              </a:rPr>
              <a:t> (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broj rezonansi u opsegu od 1 Hz)</a:t>
            </a:r>
            <a:endParaRPr b="0" lang="en-US" sz="20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255" name="Picture 8" descr="Refleksija od dva zida"/>
          <p:cNvPicPr/>
          <p:nvPr/>
        </p:nvPicPr>
        <p:blipFill>
          <a:blip r:embed="rId1"/>
          <a:stretch/>
        </p:blipFill>
        <p:spPr>
          <a:xfrm>
            <a:off x="468360" y="1557360"/>
            <a:ext cx="3995640" cy="3027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Slika 17"/>
          <p:cNvPicPr/>
          <p:nvPr/>
        </p:nvPicPr>
        <p:blipFill>
          <a:blip r:embed="rId2"/>
          <a:stretch/>
        </p:blipFill>
        <p:spPr>
          <a:xfrm>
            <a:off x="4716360" y="1557360"/>
            <a:ext cx="4211640" cy="30448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0"/>
          <p:cNvSpPr/>
          <p:nvPr/>
        </p:nvSpPr>
        <p:spPr>
          <a:xfrm>
            <a:off x="104292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Stoje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ći talasi - 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aksijalni, tangencijalni, prostorni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1042920" y="1125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aksijalni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5364000" y="1125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tangencijalni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826920" y="5084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Nivoi energije aksijalnih, tangecijalnih i prostornih talasa se odnose kao 0:-3:-6 dB. prostorni imaju najduži put i najviše puta se reflektuju.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5"/>
              <p:cNvSpPr txBox="1"/>
              <p:nvPr/>
            </p:nvSpPr>
            <p:spPr>
              <a:xfrm>
                <a:off x="2771640" y="1557360"/>
                <a:ext cx="1656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 Box 7"/>
          <p:cNvSpPr/>
          <p:nvPr/>
        </p:nvSpPr>
        <p:spPr>
          <a:xfrm>
            <a:off x="2700360" y="4076640"/>
            <a:ext cx="1727280" cy="510120"/>
          </a:xfrm>
          <a:prstGeom prst="rect">
            <a:avLst/>
          </a:prstGeom>
          <a:solidFill>
            <a:srgbClr val="b015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i="1" lang="sl-SI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i="1" lang="sl-SI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&gt;  </a:t>
            </a:r>
            <a:r>
              <a:rPr b="0" i="1" lang="sl-SI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i="1" lang="sl-SI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&gt; </a:t>
            </a:r>
            <a:r>
              <a:rPr b="0" i="1" lang="sl-SI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i="1" lang="sl-SI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sl-SI" sz="2400" spc="-1" strike="noStrike" baseline="-25000">
                <a:solidFill>
                  <a:srgbClr val="ffff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5"/>
          <p:cNvSpPr/>
          <p:nvPr/>
        </p:nvSpPr>
        <p:spPr>
          <a:xfrm>
            <a:off x="395280" y="43657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99"/>
                </a:solidFill>
                <a:latin typeface="Tahoma"/>
              </a:rPr>
              <a:t>Raspored frekvencija rezonanse paralelopipedne prostorije dimenzija 9 m x 7,5 m x 5,8 m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264" name="Picture 6" descr="Rezonanse prostorije"/>
          <p:cNvPicPr/>
          <p:nvPr/>
        </p:nvPicPr>
        <p:blipFill>
          <a:blip r:embed="rId1"/>
          <a:stretch/>
        </p:blipFill>
        <p:spPr>
          <a:xfrm>
            <a:off x="0" y="1938240"/>
            <a:ext cx="9144000" cy="18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0" descr="Frekv rezonancejpg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5"/>
          <p:cNvSpPr/>
          <p:nvPr/>
        </p:nvSpPr>
        <p:spPr>
          <a:xfrm>
            <a:off x="4643280" y="378936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i="1" lang="sl-SI" sz="2400" spc="-1" strike="noStrike">
                <a:solidFill>
                  <a:srgbClr val="ffff99"/>
                </a:solidFill>
                <a:latin typeface="Tahoma"/>
              </a:rPr>
              <a:t>Frekvencije rezonanse paralelopipedne 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0" i="1" lang="sl-SI" sz="2400" spc="-1" strike="noStrike">
                <a:solidFill>
                  <a:srgbClr val="ffff99"/>
                </a:solidFill>
                <a:latin typeface="Tahoma"/>
              </a:rPr>
              <a:t>prostorije dimenzija 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99"/>
                </a:solidFill>
                <a:latin typeface="Tahoma"/>
              </a:rPr>
              <a:t>9 m x 7,5 m x 5,8 m.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4" descr="18.JPG"/>
          <p:cNvPicPr/>
          <p:nvPr/>
        </p:nvPicPr>
        <p:blipFill>
          <a:blip r:embed="rId1"/>
          <a:stretch/>
        </p:blipFill>
        <p:spPr>
          <a:xfrm>
            <a:off x="324000" y="1401840"/>
            <a:ext cx="5040000" cy="2475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5113440" y="5300640"/>
                <a:ext cx="28051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,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Rectangle 8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7"/>
              <p:cNvSpPr txBox="1"/>
              <p:nvPr/>
            </p:nvSpPr>
            <p:spPr>
              <a:xfrm>
                <a:off x="1116000" y="5300640"/>
                <a:ext cx="18716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Text Box 9"/>
          <p:cNvSpPr/>
          <p:nvPr/>
        </p:nvSpPr>
        <p:spPr>
          <a:xfrm>
            <a:off x="971640" y="45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prigušenje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4932360" y="436572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širina rezonantne krive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826920" y="4046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Oblik re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onantnih krivih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 – šire pri manjoj vrednosti T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8:47:12Z</dcterms:created>
  <dc:creator>Registered User</dc:creator>
  <dc:description/>
  <dc:language>en-US</dc:language>
  <cp:lastModifiedBy>Milojko Pantić</cp:lastModifiedBy>
  <dcterms:modified xsi:type="dcterms:W3CDTF">2016-03-15T17:41:14Z</dcterms:modified>
  <cp:revision>121</cp:revision>
  <dc:subject/>
  <dc:title>Акустички дизајн просторија</dc:title>
</cp:coreProperties>
</file>