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7173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5331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73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7173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5331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5331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7173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7173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7173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5331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5331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7173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5331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7173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5331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7173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Programiranje aplikacija baza podataka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015920" y="3660840"/>
            <a:ext cx="711216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</a:rPr>
              <a:t>Vežba 8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4495680" y="62485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ŠER, specijalističke studije,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9900"/>
                </a:solidFill>
                <a:latin typeface="Arial"/>
              </a:rPr>
              <a:t>Zadatak 1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Kreirati novi projekat Windows forms aplikacije i u njega dodati novi izvor podataka: izabrati model </a:t>
            </a:r>
            <a:r>
              <a:rPr b="0" i="1" lang="sr-Latn-RS" sz="2600" spc="-1" strike="noStrike">
                <a:solidFill>
                  <a:srgbClr val="ffcc66"/>
                </a:solidFill>
                <a:latin typeface="Arial"/>
              </a:rPr>
              <a:t>Entity Data Model, </a:t>
            </a: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koji treba da se izgeneriše na osnovu baze podataka Northwind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9900"/>
                </a:solidFill>
                <a:latin typeface="Arial"/>
              </a:rPr>
              <a:t>Zadatak 1 - nastavak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Napraviti formu kao na slici koja prikazuje sve zaposlene i ima mogućnost izmene izabanog zaposlenog. Koristiti povezivanje kontrola sa Entity objektom izabranog zaposlenog.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472428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9900"/>
                </a:solidFill>
                <a:latin typeface="Arial"/>
              </a:rPr>
              <a:t>Zadatak 2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Izmeniti model na sledeći način: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cc66"/>
                </a:solidFill>
                <a:latin typeface="Arial"/>
              </a:rPr>
              <a:t>Dodati dva nova Entity objekta: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ffcc66"/>
                </a:solidFill>
                <a:latin typeface="Arial"/>
              </a:rPr>
              <a:t>PendingOrders – porudžbine koje nisu isporučene (ShippedDate je null)</a:t>
            </a:r>
            <a:endParaRPr b="0" lang="en-US" sz="22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ffcc66"/>
                </a:solidFill>
                <a:latin typeface="Arial"/>
              </a:rPr>
              <a:t>OldOrders – porudžbine koje su isporučene (ShippedDate &lt;&gt; null)</a:t>
            </a:r>
            <a:endParaRPr b="0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cc66"/>
                </a:solidFill>
                <a:latin typeface="Arial"/>
              </a:rPr>
              <a:t>Dodati objekti nasleđuju Orders koji postaje </a:t>
            </a:r>
            <a:r>
              <a:rPr b="0" i="1" lang="sr-Latn-RS" sz="2400" spc="-1" strike="noStrike">
                <a:solidFill>
                  <a:srgbClr val="ffcc66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cc66"/>
                </a:solidFill>
                <a:latin typeface="Arial"/>
              </a:rPr>
              <a:t>Polje </a:t>
            </a:r>
            <a:r>
              <a:rPr b="0" i="1" lang="sr-Latn-RS" sz="2400" spc="-1" strike="noStrike">
                <a:solidFill>
                  <a:srgbClr val="ffcc66"/>
                </a:solidFill>
                <a:latin typeface="Arial"/>
              </a:rPr>
              <a:t>ShippedDate</a:t>
            </a:r>
            <a:r>
              <a:rPr b="0" lang="sr-Latn-RS" sz="2400" spc="-1" strike="noStrike">
                <a:solidFill>
                  <a:srgbClr val="ffcc66"/>
                </a:solidFill>
                <a:latin typeface="Arial"/>
              </a:rPr>
              <a:t> se prebacuje u OldOrder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cc66"/>
                </a:solidFill>
                <a:latin typeface="Arial"/>
              </a:rPr>
              <a:t>Podesiti uslove za to polje u izvedenim klasama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49320" y="552600"/>
            <a:ext cx="5284800" cy="4198680"/>
          </a:xfrm>
          <a:prstGeom prst="rect">
            <a:avLst/>
          </a:prstGeom>
          <a:ln w="0">
            <a:noFill/>
          </a:ln>
        </p:spPr>
      </p:pic>
      <p:sp>
        <p:nvSpPr>
          <p:cNvPr id="51" name="Oval 7"/>
          <p:cNvSpPr/>
          <p:nvPr/>
        </p:nvSpPr>
        <p:spPr>
          <a:xfrm>
            <a:off x="3467160" y="1600200"/>
            <a:ext cx="1523880" cy="3808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0" y="487512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53" name="Oval 8"/>
          <p:cNvSpPr/>
          <p:nvPr/>
        </p:nvSpPr>
        <p:spPr>
          <a:xfrm>
            <a:off x="228600" y="5181480"/>
            <a:ext cx="7848720" cy="6858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9900"/>
                </a:solidFill>
                <a:latin typeface="Arial"/>
              </a:rPr>
              <a:t>Zadatak 3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Dodati novu formu kao na slici: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609624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9900"/>
                </a:solidFill>
                <a:latin typeface="Arial"/>
              </a:rPr>
              <a:t>Zadatak 3 - nastavak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Forma prikazuje izabrane porudžbine za zadatog zaposlenog iz prethodne forme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Pri učitavanju forme (Load) prikazuju se samo tekuće porudžbine (PendingOrders)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Izborom se menja prikaz starih i tekućih porudžbina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Na pritisak dugmeta “Izmena količina” treba da se testira funkcionisanje podrazumevane transakcije pri snimanju podataka: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cc66"/>
                </a:solidFill>
                <a:latin typeface="Arial"/>
              </a:rPr>
              <a:t>Za zadatu porudžbinu izmeniti količinu u stavkama na sledeći način: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ffcc66"/>
                </a:solidFill>
                <a:latin typeface="Arial"/>
              </a:rPr>
              <a:t>Quantity&gt;10 -&gt; Quantity = -1</a:t>
            </a:r>
            <a:endParaRPr b="0" lang="en-US" sz="22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ffcc66"/>
                </a:solidFill>
                <a:latin typeface="Arial"/>
              </a:rPr>
              <a:t>Quantity&lt;10 -&gt; Quantity -= 1</a:t>
            </a:r>
            <a:endParaRPr b="0" lang="en-US" sz="22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cc66"/>
                </a:solidFill>
                <a:latin typeface="Arial"/>
              </a:rPr>
              <a:t>Pozvati snimanje i osvežavanje prikaza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4:32:12Z</dcterms:created>
  <dc:creator>Vlada</dc:creator>
  <dc:description/>
  <dc:language>en-US</dc:language>
  <cp:lastModifiedBy>Narodni nalog</cp:lastModifiedBy>
  <dcterms:modified xsi:type="dcterms:W3CDTF">2017-05-22T16:49:50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