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7173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73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7173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5331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5331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7173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7173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7173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7173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7173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7173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rogramiranje aplikacija baza podataka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015920" y="3660840"/>
            <a:ext cx="711216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Vežba </a:t>
            </a:r>
            <a:r>
              <a:rPr b="0" lang="sr-RS" sz="2600" spc="-1" strike="noStrike">
                <a:solidFill>
                  <a:srgbClr val="ffcc66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449568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ER, specijalističke studije, 201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Kreirati novi projekat Windows forms aplikacije i u njega dodati novi izvor podataka: izabrati model </a:t>
            </a:r>
            <a:r>
              <a:rPr b="0" i="1" lang="sr-Latn-RS" sz="2600" spc="-1" strike="noStrike">
                <a:solidFill>
                  <a:srgbClr val="ffcc66"/>
                </a:solidFill>
                <a:latin typeface="Arial"/>
              </a:rPr>
              <a:t>Entity Data Model, </a:t>
            </a: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koji treba da se izgeneriše na osnovu baze podataka Northwind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Uključiti sve tabele u model, protumačiti značenje dva checkbox-a pri izboru tabela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Završiti kreiranje modela i pogledati njegovu šemu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Desni klik miša na entitet Products i izabrati Table Mappings; pogledati čemu služi i opcije pri mapiranju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Pogledati vezu između entiteta Product i Category </a:t>
            </a:r>
            <a:r>
              <a:rPr b="0" lang="sr-Latn-RS" sz="2200" spc="-1" strike="noStrike">
                <a:solidFill>
                  <a:srgbClr val="ffcc66"/>
                </a:solidFill>
                <a:latin typeface="Arial"/>
              </a:rPr>
              <a:t>( primetite da su imena entiteta u jednini)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2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Napraviti formu kao na slici: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62000" y="971640"/>
            <a:ext cx="7021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2 - nastavak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Koristeći EF model i LINQ napraviti dve metode koje će osvežavati DGV kontrole za prikaz dobavljača i kategorija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Treba prikazati naziv i broj proizvoda koji se nalazi u kategoriji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Takođe obezbediti unos novih dobavljača i kategorija i osvežavanje prikaza nakon unosa.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3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Dodati novu formu kao na slici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01992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3 - nastavak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Koristeći LINQ i EF model, prikazati dobavljače i kategorije u ComboBox kontrolama, a proizvode u DGV kontroli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Omogućiti unos novog proizvoda na osnovu unetih podataka sa forme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Nakon zatvaranja forme za unos proizvoda treba osvežiti listu kategorija.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32:12Z</dcterms:created>
  <dc:creator>Vlada</dc:creator>
  <dc:description/>
  <dc:language>en-US</dc:language>
  <cp:lastModifiedBy>Narodni nalog</cp:lastModifiedBy>
  <dcterms:modified xsi:type="dcterms:W3CDTF">2017-05-15T17:19:56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