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ežba 6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 vežbanje: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http://msdn.microsoft.com/en-us/vcsharp/aa336746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Napraviti Windows aplikaciju koja ima formu kao na slici: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</a:t>
            </a: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1 - nastavak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Koristeći LINQ to DataSet obezbediti prikaz svih podataka sa slik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Filtriranje – LINQ upi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Sortiranj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Računanje sum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</a:t>
            </a: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cc66"/>
                </a:solidFill>
                <a:latin typeface="Arial"/>
              </a:rPr>
              <a:t>Na pritisak dugmeta “Proizvodi” treba da se otvori nova forma koja prikazuje sve proizvode i kategorije sortirane po kategoriji. Koristiti JOIN za spajanje tabela Products i Categori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78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datak 3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Na pritisak dugmeta “Izveštaj” treba da se otvori nova forma sa ReportViewer kontrolom koja će da prikaže tabelu sa proizvodima, koji su grupisani po kategoriji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ff9900"/>
                </a:solidFill>
                <a:latin typeface="Arial"/>
              </a:rPr>
              <a:t>Zadatak 4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Formu sa proizvodima proširiti sa TabControl kontrolom, i na drugi TabPage dodati DGV kontrolu koja treba da prikaže kategorije i broj proizvoda u svakoj od njih. Koristiti </a:t>
            </a:r>
            <a:r>
              <a:rPr b="1" lang="sr-Latn-RS" sz="2800" spc="-1" strike="noStrike">
                <a:solidFill>
                  <a:srgbClr val="ffcc66"/>
                </a:solidFill>
                <a:latin typeface="Arial"/>
              </a:rPr>
              <a:t>group by </a:t>
            </a:r>
            <a:r>
              <a:rPr b="0" lang="sr-Latn-RS" sz="2800" spc="-1" strike="noStrike">
                <a:solidFill>
                  <a:srgbClr val="ffcc66"/>
                </a:solidFill>
                <a:latin typeface="Arial"/>
              </a:rPr>
              <a:t> i </a:t>
            </a:r>
            <a:r>
              <a:rPr b="1" lang="sr-Latn-RS" sz="2800" spc="-1" strike="noStrike">
                <a:solidFill>
                  <a:srgbClr val="ffcc66"/>
                </a:solidFill>
                <a:latin typeface="Arial"/>
              </a:rPr>
              <a:t>join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5-08T16:25:4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