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391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91404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39120"/>
            <a:ext cx="264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3912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914040"/>
            <a:ext cx="40158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39120"/>
            <a:ext cx="82296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Arial"/>
              </a:rPr>
              <a:t>Programiranje aplikacija baza podataka</a:t>
            </a: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Vežba 5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4495680" y="624852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ŠER, specijalističke studije, 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Arial"/>
              </a:rPr>
              <a:t>Zadatak 1</a:t>
            </a: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Kreirati DataSet kontrolu I u tabelu Products dodati dve samoracunajuce kolone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BrojPorucivanja je cifra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Kategorija je ime kategorije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3629160" y="1971720"/>
            <a:ext cx="18856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Arial"/>
              </a:rPr>
              <a:t>Zadatak 1</a:t>
            </a: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45" name="Content Placeholder 3" descr=""/>
          <p:cNvPicPr/>
          <p:nvPr/>
        </p:nvPicPr>
        <p:blipFill>
          <a:blip r:embed="rId1"/>
          <a:stretch/>
        </p:blipFill>
        <p:spPr>
          <a:xfrm>
            <a:off x="1690560" y="1219320"/>
            <a:ext cx="576288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9900"/>
                </a:solidFill>
                <a:latin typeface="Arial"/>
              </a:rPr>
              <a:t>Zadatak 1</a:t>
            </a:r>
            <a:endParaRPr b="0" lang="en-US" sz="3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Napraviti RDLC izveštaj koji će služiti da prikaže sve zaposlene i njihov broj porudžbina za neki zadati period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U izveštaju treba da postoji tabela sa poljima: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Ime, prezime, broj porudžbina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U zaglavlju izveštaja treba da stoji naslov sa periodom koji je zadat kroz parametre izveštaja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4:32:12Z</dcterms:created>
  <dc:creator>Vlada</dc:creator>
  <dc:description/>
  <dc:language>en-US</dc:language>
  <cp:lastModifiedBy>Narodni nalog</cp:lastModifiedBy>
  <dcterms:modified xsi:type="dcterms:W3CDTF">2017-04-10T17:09:16Z</dcterms:modified>
  <cp:revision>8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