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ežba 4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ŠER, specijalističke studije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praviti novu Windows aplikaciju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oristeći povezivanje kontrola sa podacima napraviti aplikaciju koja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adrži ComboBox kontrolu koja prikazuje kategorije proizvod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adrži DataGridView koji prikazuje podatke o proizvodima (naziv i cenu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reaguje na promenu kategorije i prikazuje samo proizvode iz izabrane kategorij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oristiti BindingSource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njegova uloga i mogućnost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lter, Sort, Current, Current_Changed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5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2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 postojećoj formi dodati dugme “Detalji” koje treba da otvori novu formu koja prikazuje sve podatke o izabranom proizvodu iz DGV kontrole sa mogućnošću izmene i snimanja u bazu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Izvor za povezivanje može biti DataRow ili filtrirani BindingSourc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oristiti prosto povezivanje - programsk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oditi računa da korisnik aplikacije gleda nazive a ne ID brojeve koji stoje u bazi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Rešenje je ComboBox koji je povezan sa podatkom a u isto vreme i sa tabelom koja sadrži naziv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5959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4-03T16:25:25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