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Programiranje aplikacija baza podataka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Vežba 2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4495680" y="62485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ŠER, specijalističke studije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9900"/>
                </a:solidFill>
                <a:latin typeface="Arial"/>
              </a:rPr>
              <a:t>Zadatak 1</a:t>
            </a:r>
            <a:endParaRPr b="0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546120" y="1219320"/>
            <a:ext cx="8172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Zadatak 1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Korišćenjem adaptera popuniti ComboBox kontrolu sa podacima CategoryName iz tabele Categorie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a odabranu kategoriju u ListBox kontroli prikazati podatke ProductName iz tabele Product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odaci o proizvodima se čuvaju u okviru DataSet kontrol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a klik dugmeta popuniti DataGridView kontrolu pomoću DataTable kontrole, tako da se prikazuju ProductName I UnitPrice proizvoda koji imaju veću vrednost UnitPrice zadatu u TextBox kontroli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Zadatak 1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ovezivanje kontrola vršiti preko DataSource svojstva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4:32:12Z</dcterms:created>
  <dc:creator>Vlada</dc:creator>
  <dc:description/>
  <dc:language>en-US</dc:language>
  <cp:lastModifiedBy>Narodni nalog</cp:lastModifiedBy>
  <dcterms:modified xsi:type="dcterms:W3CDTF">2017-03-20T16:38:2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